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6 December 2005 – version 3.0 – Page </a:t>
            </a:r>
            <a:fld id="{6D40EFA4-B21F-4EAB-9A31-62F36DA4FF76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6119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Default settings for User Preferences in Primavera Project Management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4005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visualise the preferred- and standard settings of “User Preferences in Primavera Project Manager.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Verify – and if necessary change – these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Startup Filter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4221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5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 Uni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84464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836640"/>
            <a:ext cx="7840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Times New Roman"/>
              </a:rPr>
              <a:t>User Preferences is placed under EDIT in the menu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3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Date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13372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Currency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3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2421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ssistanc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1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292428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ssistanc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1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3213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Password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3429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8353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: Immediately change the password provided by Primavera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Resource Analysi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371628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Calculation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393372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2.0 Released 16.12.05 Jacob Juul
2.1. - 16.12.05 - jju - updated as BenQ template
Version number changed to 3.0 - 25 January 2006 - OSM</dc:description>
  <dc:language>en-US</dc:language>
  <cp:lastModifiedBy>Ole Sletting Madsen</cp:lastModifiedBy>
  <dcterms:modified xsi:type="dcterms:W3CDTF">2006-01-25T10:22:23Z</dcterms:modified>
  <cp:revision>10</cp:revision>
  <dc:subject/>
  <dc:title>Primavera Project Manager - User Preferences</dc:title>
</cp:coreProperties>
</file>